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0DF-F726-4FB5-9C2B-3B91A7D5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5DB-96A3-4A9B-A549-AEAECD6B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AD8-160A-4DF1-A426-803B3E77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3A4-7883-4C24-8461-ADB0E3E3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CD2-5D6E-482F-8984-5E36456A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1E4-C3D2-41B2-BBDA-A4316B50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240-E37B-4AF1-8CF8-DD4EF597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A43-0549-43CD-B46A-156DEA5C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CDF-CC3B-4CF1-9251-E0D16ABE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FBB-1A2A-441E-A328-BB36899C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C11-AFE2-4DE2-979F-99A0B4D3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71F-C2CF-4468-9294-75A6C42C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A66E-29C7-4731-BDAC-63F4332D69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A532-1CF5-4BA6-8948-EC1DCB823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2665440" cy="232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7440" y="3355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0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160" y="5493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km Ge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915840"/>
            <a:ext cx="2519280" cy="229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08160" y="33559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2535120" cy="2332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27440" y="33559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0.1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03640" y="3860640"/>
            <a:ext cx="3095640" cy="2733840"/>
            <a:chOff x="3203640" y="3860640"/>
            <a:chExt cx="3095640" cy="2733840"/>
          </a:xfrm>
        </p:grpSpPr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203640" y="3860640"/>
              <a:ext cx="309564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26360" y="604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89920" y="5732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92080" y="53737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45320" y="4005360"/>
              <a:ext cx="7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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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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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26400" y="6165720"/>
              <a:ext cx="104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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2G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D1847-2894-4164-83B1-3AFBB0E475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3:18:27Z</dcterms:created>
  <dc:creator>J.E Campagne</dc:creator>
  <dc:description/>
  <dc:language>en-US</dc:language>
  <cp:lastModifiedBy>J.E Campagne</cp:lastModifiedBy>
  <dcterms:modified xsi:type="dcterms:W3CDTF">2005-11-30T15:26:52Z</dcterms:modified>
  <cp:revision>6</cp:revision>
  <dc:subject/>
  <dc:title>Diapositive 1</dc:title>
</cp:coreProperties>
</file>